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4C7-3BB7-4B26-BA2B-F40F4CD7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F7A-C35C-4970-B64C-A34919B0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5D07-B903-43E4-AF86-8A7872A3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109B-DF26-415B-BE7A-A35446EB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228-6C17-471A-9A7D-365C0049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8F9-5EF2-4301-B4DB-EA40B2B9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8F0-9E3C-491B-933E-F9B78D70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FFE-1EEB-440E-B04F-238DB02D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1AA-E3BC-4E40-AE1A-A84BF073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017-16DE-441D-908C-3EC1F432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0D5-F86C-434F-8877-8DF7F825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3BC-1A43-4D1B-8F9C-C556285C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398F-2F8D-4D39-84CA-762B4961D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video" Target="file:///tmp/home/.config/libreoffice/4/user/gallery/Recorded%20Sound%201" TargetMode="External"/><Relationship Id="rId3" Type="http://schemas.microsoft.com/office/2007/relationships/media" Target="file:///tmp/home/.config/libreoffice/4/user/gallery/Recorded%20Sound%201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freedom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old by Iv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609480"/>
            <a:ext cx="1816200" cy="1675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74 -0.12393 C -0.10087 -0.12555 -0.10573 -0.12717 -0.10851 -0.13041 C -0.11789 -0.14081 -0.10521 -0.13388 -0.11632 -0.13873 C -0.12171 -0.14544 -0.12691 -0.15052 -0.13386 -0.15353 C -0.16476 -0.15029 -0.19497 -0.14706 -0.22587 -0.14521 C -0.23299 -0.13526 -0.24167 -0.12694 -0.25122 -0.12185 C -0.25782 -0.11492 -0.26285 -0.10798 -0.27032 -0.10289 C -0.27952 -0.0837 -0.29671 -0.07006 -0.31007 -0.05642 C -0.31962 -0.04671 -0.32327 -0.04093 -0.3323 -0.02891 C -0.33334 -0.02752 -0.33542 -0.02451 -0.33542 -0.02451 C -0.33941 -0.00278 -0.33403 -0.02821 -0.34011 -0.00972 C -0.34237 -0.00278 -0.34358 0.00624 -0.34497 0.01341 C -0.34393 0.02612 -0.34375 0.03907 -0.34184 0.05156 C -0.34046 0.06057 -0.32292 0.0763 -0.31632 0.07676 C -0.26615 0.07953 -0.2158 0.07976 -0.16563 0.08115 C -0.14809 0.09017 -0.15504 0.08716 -0.14497 0.09156 C -0.13351 0.10196 -0.13889 0.0978 -0.129 0.10427 C -0.11719 0.12092 -0.11789 0.15306 -0.1323 0.16554 C -0.13803 0.18127 -0.13368 0.17179 -0.14809 0.19098 C -0.16407 0.21225 -0.17969 0.22543 -0.20209 0.23121 C -0.22223 0.23052 -0.24219 0.23052 -0.26233 0.22913 C -0.26754 0.2289 -0.27362 0.22312 -0.2783 0.22057 C -0.28143 0.21896 -0.28785 0.21641 -0.28785 0.21641 C -0.2974 0.20786 -0.28698 0.21618 -0.30053 0.20994 C -0.30973 0.20578 -0.31771 0.2 -0.32743 0.19745 C -0.33264 0.19791 -0.34584 0.19815 -0.35296 0.20161 C -0.36198 0.20601 -0.36372 0.21179 -0.37032 0.22057 C -0.37605 0.2282 -0.38299 0.23237 -0.38785 0.24185 C -0.39167 0.25711 -0.39028 0.25017 -0.39254 0.26289 C -0.39202 0.27213 -0.39358 0.28185 -0.39098 0.2904 C -0.38855 0.29826 -0.38004 0.29849 -0.37518 0.30104 C -0.35678 0.31052 -0.33993 0.31005 -0.31962 0.31144 C -0.32257 0.3237 -0.32292 0.33687 -0.32431 0.34959 C -0.32379 0.36231 -0.32362 0.37479 -0.32275 0.38751 C -0.32101 0.41572 -0.29896 0.41872 -0.28299 0.42566 C -0.18212 0.42497 -0.08091 0.42566 0.02013 0.42358 C 0.0302 0.42335 0.03454 0.40023 0.04392 0.39607 C 0.06632 0.40185 0.0875 0.41549 0.10902 0.42566 C 0.11875 0.43028 0.12395 0.43445 0.1342 0.4363 C 0.20243 0.43445 0.20173 0.44346 0.24548 0.41711 C 0.25382 0.41202 0.26128 0.40924 0.2677 0.40023 C 0.27066 0.38867 0.27864 0.38427 0.28368 0.37502 C 0.28871 0.36601 0.29288 0.35653 0.29791 0.34751 C 0.2993 0.34219 0.30312 0.33826 0.30434 0.33271 C 0.3059 0.32578 0.30538 0.31861 0.3059 0.31144 C 0.30486 0.29109 0.30677 0.26982 0.3026 0.25017 C 0.30121 0.24346 0.29461 0.24069 0.28993 0.23745 C 0.28784 0.23607 0.28559 0.23491 0.28368 0.23329 C 0.28246 0.23213 0.27882 0.22913 0.28038 0.22913 C 0.28316 0.22913 0.29635 0.24185 0.29635 0.24185 C 0.3059 0.24901 0.31927 0.25271 0.32968 0.25664 C 0.33281 0.2578 0.33611 0.25757 0.33923 0.25849 C 0.34409 0.26034 0.34878 0.26289 0.35347 0.26497 C 0.35503 0.26566 0.35816 0.26705 0.35816 0.26705 C 0.37447 0.28878 0.34739 0.2541 0.36614 0.27352 C 0.37621 0.28393 0.38507 0.29826 0.39322 0.31144 C 0.39826 0.33225 0.40243 0.32208 0.39635 0.35791 C 0.39548 0.363 0.39166 0.36601 0.38993 0.37063 C 0.38784 0.37618 0.38645 0.38242 0.38368 0.38751 C 0.38055 0.39329 0.37413 0.40462 0.37413 0.40462 C 0.37187 0.41919 0.37031 0.41433 0.36614 0.42566 C 0.35902 0.44485 0.34757 0.46358 0.33437 0.4763 C 0.31979 0.50659 0.271 0.50774 0.25034 0.5082 C 0.22013 0.5089 0.1901 0.50959 0.15972 0.51028 C 0.15208 0.52485 0.14895 0.53734 0.13923 0.55028 C 0.13645 0.56161 0.13836 0.55491 0.13125 0.56948 C 0.12934 0.57341 0.12847 0.57826 0.12656 0.58219 C 0.12708 0.59422 0.12725 0.60601 0.12812 0.61803 C 0.12864 0.62682 0.13697 0.6326 0.12812 0.64346 C 0.12395 0.64832 0.11753 0.64485 0.11197 0.64554 C 0.09947 0.64901 0.08645 0.65156 0.07395 0.65618 C 0.05451 0.65549 0.03489 0.65595 0.01545 0.65387 C 0.01354 0.65364 0.01232 0.65063 0.01059 0.64971 C 0.00243 0.64508 -0.00504 0.64023 -0.0132 0.63491 C -0.02014 0.62566 -0.02205 0.61364 -0.02431 0.60115 C -0.02379 0.59491 -0.02483 0.58797 -0.02275 0.58219 C -0.02223 0.58057 -0.00938 0.56208 -0.00678 0.55884 C -0.00365 0.54635 0.00156 0.55144 -0.00678 0.54404 C -0.0198 0.54612 -0.03004 0.5489 -0.04341 0.55028 C -0.05643 0.56254 -0.08993 0.56023 -0.10209 0.56092 C -0.11285 0.56277 -0.12049 0.56323 -0.13073 0.55884 C -0.13976 0.54682 -0.15348 0.53849 -0.16563 0.53341 C -0.17379 0.52624 -0.17865 0.51491 -0.18629 0.5082 C -0.19393 0.49248 -0.19775 0.47098 -0.20209 0.45318 C -0.20365 0.44693 -0.20521 0.44046 -0.20678 0.43422 C -0.20782 0.43005 -0.20834 0.41711 -0.20851 0.4215 C -0.20921 0.44254 -0.20851 0.46381 -0.20851 0.48485 E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9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aves weren’t allowed to no there birthday or there a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Henry got older he got marri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7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ry escaped from h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was in a bo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38360" y="2344680"/>
            <a:ext cx="226728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7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22:27Z</dcterms:created>
  <dc:creator>test</dc:creator>
  <dc:description/>
  <dc:language>en-US</dc:language>
  <cp:lastModifiedBy>test</cp:lastModifiedBy>
  <dcterms:modified xsi:type="dcterms:W3CDTF">2011-03-23T18:33:28Z</dcterms:modified>
  <cp:revision>7</cp:revision>
  <dc:subject/>
  <dc:title>Henrey’s Freedom Box</dc:title>
</cp:coreProperties>
</file>